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99CE-4A27-4943-8BAE-C64752A2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C7F2-075A-42ED-99F0-AC92CB19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0D69D-E659-420C-B4F1-8B2B74EF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1FB4A-F930-4B29-9985-E2F62FE7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6B869-6D72-44FC-8A2C-DF6970CE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BF080-D1DD-4A14-9533-F587BCDE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57A51-0D89-40EA-BDDE-3AF1FC5D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B786A-E152-44A7-9A45-DEE0780F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AA3F6-B5E4-4E85-A1DF-1AD5EA5D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60BDA-37A6-4CBC-9DDC-2AE9A8A6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7D76D-949D-40EB-9DAA-9779490D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8C98C-0362-4BB1-BFB0-0FEF0196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808-E4A8-4658-AE34-3E3490DE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BC656-D242-47A9-9CF9-292E4F3F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98796-68BD-49E4-90B9-157D6876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DD60C-BA03-495D-9D87-4D11F732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6753D-3748-4CC6-8D53-605F96FD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64847-CED8-41E2-B6D4-FD32DFC4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CD3A9-D8D2-4580-88E8-5962A326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AE7A0-17FC-4348-B688-F2C6CC52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42DD4-EF62-4EAC-A3D1-854D00F3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3D29D-B774-4C5E-9A4D-FF722135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6D012-BF46-4D68-A4EC-3A2C4DDD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CA1-E39D-47BF-81CA-C5D0F80E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1C198-2235-4299-A14D-D48F26F2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B3D34-D7D3-469D-B84C-0FB70F05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33D90-803B-4E3D-9FD4-87E62171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365B9-4EFF-46FE-9E0A-A625923D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153A5-CFAB-4E12-9992-8DA298CE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EFFEE-A73A-408C-8C6F-98745F83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80B35-8863-45B8-8098-E96C7DD0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F9122-8DCE-4034-9313-89CF712D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2360D-291D-454E-B2EC-2057E12C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217A8-94BD-4F4B-AD70-450AB722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0B32-7B13-47BD-95BC-1C654D0F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0D687-10B8-49B4-B755-D187BCF7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5AC39-8304-4C22-9B05-D12B0D3D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8F55B-C746-44DD-B835-6E4E8ABF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67D2E-153E-4BCF-A373-EDE2FB82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1881B-FF4A-4758-8CA7-02391315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284D2-36B5-474B-B0C9-E729F42F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F8F91-D245-414B-A402-BAEDB450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8BCAF-EB86-4646-B560-7A7D3440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35D85-C51A-4849-B5AA-CA89150D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1896C-43A4-4407-A39F-34A9BD99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B287-4197-4FA4-8169-50F00E38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56CD4-6646-45B1-BA75-7E68D632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F06F6-53FD-4C79-95A2-21FB9F41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12916-6681-4E18-93BB-55AFB24D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461DB-9BCD-4D1C-9ED2-2CA89261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19F45-E69A-415E-AD0C-4C748712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170E4-51E5-49EA-98A3-CB2631B1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56CDA-3647-4AE2-8FD8-1C1401F8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F11E9E-34BB-414F-A04C-4DDC837E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2DCA1-6146-46CD-BEB7-CC2CA23B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B80C32-D175-4077-9477-677413BD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DA3B-FA57-4AAA-8ACE-76AAEE86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943AB-8467-4E90-BE6C-D3AAA1CA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248D3-FF6B-46FA-9CCF-6EDBCC1A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88C0A-CE70-4421-B28C-2BA0B885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2E19E-29AD-4123-9085-9424EC94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DFA59-5B6F-4459-8FCE-141175BF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4FB3A9-1CC1-4B9C-86E9-97876027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B660A-30D7-41FB-B9F4-A7308A17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3B88A-F005-4BE7-91D3-D21A259B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2BCA75-04B2-454C-AD66-4AC8E04E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9CF70D-9E2D-4E4D-AE56-3E07E725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0346-07EE-4433-A229-8E399481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9817AA-3190-4978-ADCF-F091E5CC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4A9A6-4F93-4534-84A7-FFFD5CA7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C4C7A9-E944-4AC2-B572-823F454E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612B4-3C41-424D-AEFF-89835BCD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55302-5E6A-42A9-9AE4-BA33216A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B0D6B1-F730-43FA-9C4C-C9CA4FA4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EC8940-045D-45AE-9AF7-487F1569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13A15-C047-4BB7-9647-5AE38D5E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2F33B6-DD2C-47CA-A14E-1FD2C53A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78B0E6-03BA-4859-AA96-59BAE0A3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C00B-7B72-48CC-8FFD-95032750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0AAF65-9D8B-4EBD-B5A3-9960703E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4A1A84-D6B7-4B97-8A24-5361C83B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5A4B13-FDFC-473E-B964-E97F5F72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BD6668-D87F-4165-8B91-3A5B945F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A8A120-64F5-4D27-A775-D1E5C62A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BA3DF6-FB87-4CCF-A59C-0A3EA38A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940971-7173-41EF-8AD3-F7BEE63F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06244E-F449-4390-AA0E-6539E9CA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C6E11E-35B5-4E98-9803-89A6FC47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DCC00B-B29D-4252-A26F-E0B869B4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93F6-63D7-4442-A1D2-382C70CD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22007-A3B5-43B2-8EBC-6821F672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AB3BF5-75E3-45B6-8023-7A026608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0A4184-1735-415A-A6B2-D4062769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9C4771-1EE8-4396-A08E-EAEBCD45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65AB98-962F-4869-9ED5-F4E5CBBF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205A5D-73E3-4C6B-B4B8-1230D11A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F346D8-DEF1-439D-ACD3-7343CBF1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B43AB3-7717-404F-A737-E62F0005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FCA3AA-2C7D-44DD-AA80-E6F3E36D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5DB833-9F66-4C54-B81A-1199DE1D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5779-051F-408C-96F2-DF1656FD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67EEA3-459F-4E2E-871B-1248B5C8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8C68C2-FF19-4940-A7EE-8B317432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CBC19D-0376-44B5-939D-2D6FC9AF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353AB8-E912-4684-A71D-844D03F6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64C021-865D-4594-B7D0-BC1815F0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950C85-D08F-402C-BDEA-DC937F09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E9B492-F366-47B9-BC8A-503B2422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BB63FC-4803-4214-9F75-4ABE6856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93B37B-6E0C-4AAC-A2DB-77A844ED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4A8E21-581C-4EC2-B679-EE360740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365-1E32-423C-BAD3-88F75C94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9793-0BB2-4DC5-B45E-D23ACB61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3217C5-C10D-4E7B-9D94-D81D0559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AF6586-FFE6-4FC1-81D1-F077CB16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E89227-6E27-4723-90AB-5848CC7C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44AF8E-5C88-4BC9-A750-F0826A1D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846238-9988-4CCF-907E-174A3CAF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02239B-4C7B-422A-96DB-67634BA0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12F4C9-F4D1-4EB5-AEB1-812EFF37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ED5EA1-0D9A-407F-810F-EE7C306B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6C19A7-B8A2-47D2-8CA4-1C1E9EBA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81DF85-49FE-4E4D-9013-D13109B4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1D36-3663-4CC9-8AF9-231FA414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CFB1D9-6EB3-488D-A6C0-C9D6E7C1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314700-6921-4DB9-9215-9C6FA6B4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67F3AA-C4D0-4468-9DD1-59FE96BD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401886-07F2-48BA-A28E-CDC5CF30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D4D6E9-FE97-465F-9B91-E9E3BBBD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44848E-3629-4C5F-98DF-D1EBA9D4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F411E3-CE5E-41C8-8FB7-D24A7CB5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8D2482-EA19-4C57-860C-ACD0F9B8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ADA38E-B984-4FF1-BE3C-3B2E3431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88841A-61CD-4098-A6EA-A7F5775D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6CEA-5167-4C90-95B7-3EA1795F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4CFA09-63D5-40A8-B27A-09D08653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892F45-D873-4B73-8123-CB7588D6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4803B0-F58F-43E3-930C-CC8A1569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E68671-2B23-42F4-94A1-0C0C1B71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B100A2-9986-4C6D-9921-33B9E7F8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AC221C-5435-4ED6-B2A6-DBBBBE83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66B70C-59BD-49E2-AE99-B3646695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849DEA-7CF9-4E12-BA4C-932BDA3C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C413CC-B8C8-401D-9CBA-90298E98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6078EA-94C2-4950-9B3C-52E8759F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B1D9-0D7D-48B2-8DD8-44F6A6B3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DF5DA3-123E-4C83-BB15-C68BB6C6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84BBDE-7CFF-4C3D-8941-AA034195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CBC2AE-8BD9-466E-A5BE-ED72784C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F6A93D-2009-4BB5-9565-6AA1D5C6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0CB5D8-48CB-4374-BB78-5D032146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46B2D8-DBB9-4FB2-B7B4-9B4F220E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57A4AC-A17B-4290-8483-02DC66F3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08AA2D-658E-4038-A126-A6BAFA46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6248C0-77B3-4033-9038-E8EFEB6E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8A202E-7721-470C-99A7-4D2F60FA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503A-7FAB-48AA-900F-68E10D7A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C306E8-A26A-4A9F-8866-950B5C5D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190B16-81B0-4790-B098-01EF64EE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022DA5-E9B3-4ED2-AB61-B8410608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FF3506-E2E9-4D7D-944C-F9094978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51DB7C-FEB9-4240-BDEB-119B7EA4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1E374F-F23A-4E6D-85A9-1BFAE906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75275B-21C5-49BA-BACA-CB09BF0E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339AF3-21C3-420D-87B7-B8E0BFDB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FE2C83-D237-49B9-8AEA-EA86B576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0579B7-EA45-41EF-B53E-F2504503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905A4-A1BA-4CF7-B909-C7EF282E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2DB389-E5B4-4277-A7F4-1A645D4F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BBABDE-75DC-42B3-A9E3-628787AB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9105E3-0739-4331-B6F1-8EB5CB22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482B6-FB1F-4A19-8A61-7A3AD153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2E8DF-2A7D-4D17-8282-3683AAB4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76B35-256C-4AC1-89FA-9FE10F26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EDB68-64E3-427D-A785-D4ACEE4F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2884-DC45-4ECD-8A72-32ECAEFB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07DA2-0C9D-4D40-9B8D-D1143486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001F6-EF04-47D2-83BB-EC17C5B0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0F321-DF2E-4BD4-8F9E-D4CC8C78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2CC71-B217-4E41-B9F9-D4B378D6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03688-4094-46EC-9E91-C510FE9B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7455B-0A4E-4EFA-A666-7FAE1715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F1593-074A-4A8A-9ACF-A516374C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C153F-0CED-45C6-9B9D-E35014F3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C98FB-030F-4EDD-BF86-5EDFB5D8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6B29D-E57A-4187-9B10-2DB01F32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0C9B-74FD-471F-97A8-0773C5C1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181BD-FC60-4FBF-8105-C4603C6A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1A7B4-9867-43B9-AEE1-6E3C5467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6369F-3549-4FDB-A1D9-E66A81FA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76F1B-59A1-4A87-AA3A-FF4CFCBF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4C644-9283-439A-8487-68EE86D7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2C085-61AF-4E98-B5FA-32BA639A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383FA-5185-4FAD-A3CE-8B892038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93EA2-D60C-45E2-BF66-CBAC446D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05DA4-5163-4D4D-B7C8-A30AFC8E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09199-1EEB-4620-9E27-93FB25AD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99E-F073-47C4-BD4D-9E7D4438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5F8FD-AE94-4F26-931E-33E9E715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840C6-1A5E-4010-B17C-A7223A39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49EE0-9665-4609-8D0C-AB4CA4D1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A3657-48FF-44D8-A83D-E861875B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C5C86-6DD6-428C-B49E-527D4E15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0439A-B4DD-43EE-95D4-8FB43C2B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AC9C5-451A-46D1-8C33-CAF68377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2A3DA-889D-4D5A-9B64-0B681AE0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C1755-EE5C-49A3-AFE9-984A7DB8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B99CF-43E1-400A-A916-962349C8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78EC-47FF-4504-BD8B-0A3EB024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FCB02-C901-48C3-BF23-B3C32E56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2C859-44D3-4559-99AE-6B7D6732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0B7B0-2D38-4352-97A5-804C2040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48F54-7BC7-4573-A360-F387924F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9F211-D237-4A3A-9B02-9765FFD0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2E783-4F78-408B-87F2-6EA060AD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6E9BA-7438-4957-8CF6-62135F7D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15ED0-96CF-484D-8725-392FECE5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14994-7E09-4EB4-95F7-23D3E1A3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C95E9-3FD1-44BB-ADD1-5326FEA2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2D9B-0DF0-4F11-9E64-7583D36F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67B56-C8EC-433F-8DBD-162A970E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D94B2-E392-45A8-97CA-58A45DE8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255A2-FEF6-4139-9FAA-1839931B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774DC-F6C3-47F9-A383-DB426016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F0499-F2E6-4BED-9AFE-8B1E4DDC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91E57-AE9B-40D8-8E70-0101911E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B43AA-5B06-48CB-9262-B115ABF3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F0D55-D660-4A1E-AD1F-62B861E1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92DD2-92FA-444F-8961-96347622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0B989-0E70-40DF-9E28-939AB47E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C071-6E96-42B3-824D-751F9230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3DB78-AD11-4C4A-8843-CEB7065E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914DE-C2D3-42FA-A31D-7ABBB5BF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BFF52-D519-480B-A9E1-8CD95F84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21237-9F97-4FDE-B529-AC2DC4D1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68E55-0CF6-4485-82FA-CD84836D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73D67-A2C9-4A31-AC8F-DABB1AC6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6BE4B-C854-47E6-86AA-B67E447F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D53E1-BD6A-4BF2-8F66-730CB53B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AC10F-7D12-4946-81E2-0EFCFA5C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34E76-519D-4DF5-BE5A-3D14378A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DCB-545D-4247-92CD-CC2EECA1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83D8D-CE55-4E22-99EB-1DD4CB90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F87BE-4F73-44C5-8F6C-8F80DB65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D433F-C0AA-4D3F-A607-96B1E4CF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15D95-3385-490A-A5AA-321F0BB3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373C9-12CF-48BE-8F8A-EEF0159E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43E4E-D828-41D6-99DA-265346F5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A1B66-83FF-4478-8728-7CE6C246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D9EE2-00E1-47AD-93E1-BEBD4D7B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A7F91-6CAD-4F11-80E4-9DCF5FB9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6995F-4D3B-4E57-8AA1-0821369D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B24B-E65C-48B7-B405-B48181F94E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19E7-4B84-4DBD-93E8-857AB982BF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B84F-6FC5-4119-AF93-AA9E486C6C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644E-13B4-438B-9872-24F217666E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CAC7-0637-49C8-BF52-D35D518853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9AD9-5BA2-4A5F-94EC-28F706BF1A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0DCB-2563-4ECF-BB78-A71F8549D4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3951-669D-4865-A6A9-8B4D477028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9260-754B-48BE-9770-8E73BC1C6C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E129-BEA5-46C7-8FB8-A7C038E142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71FE-279B-468D-85DD-F5F69EA769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FD27-0B10-4E6A-BD98-396AADB6B5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07B2-2FFD-4493-AAE8-3E8A880EDE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6CF9-385C-4732-9D58-F6079C1090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01E8-2937-42BF-B4C9-EFFF552BA2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E145-43F9-4D0D-AED6-7EC8E7E62E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B00D-BD5F-4FCE-BB56-2AD86D19CD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8CB1-7E31-4090-B1EF-6B8F6FC55A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49E2-3A4C-4A69-BD4B-3893906DB5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2B06-7C81-4A8D-939E-30BCDDAEE0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2FF3-99AD-49E4-AFAF-7337DB55C4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3046-0DC1-4C7D-8DBE-1A0C7E6131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AD3C-6807-4256-AEA7-4A3A6EBC5C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ED64-FB65-4FAD-9D87-50F04BFB81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19EE-2D7F-44EA-A49E-AE5FD52F38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5F84-D230-44E4-B038-DACBECA270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BDD0-890E-4D72-9FDF-53E77AF269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0091-220B-4958-ADA1-E5D3A438AD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5762-85D8-4F23-A981-6486194988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D306-86FD-44AE-A2F6-D3788D8D1B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EB12-E42C-444C-9724-C79DF2B8A9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9D27-85CF-4A27-BEE0-135742F894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D4CF-7DF5-45A6-96A1-1DDB66D4B8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BBBE-ADE3-4FE2-B8A5-25F07AC2FD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C0C2-906B-42AE-A845-EC9462D401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A0F8-1448-4A48-A494-3D6EC0D019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F5BF-9885-43B6-A565-ECBC85B3F2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335B-2CEA-4B1E-A475-2FAB704D3C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2456-1BB1-4A9F-82FD-D8018E300C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4487-7D84-4CE0-A23E-2F5C936C5A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461960" y="3043080"/>
            <a:ext cx="622008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69633" descr=""/>
          <p:cNvPicPr/>
          <p:nvPr/>
        </p:nvPicPr>
        <p:blipFill>
          <a:blip r:embed="rId1"/>
          <a:stretch/>
        </p:blipFill>
        <p:spPr>
          <a:xfrm>
            <a:off x="271440" y="760320"/>
            <a:ext cx="8601120" cy="59817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1042920" y="3659040"/>
            <a:ext cx="561672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755640" y="4278240"/>
            <a:ext cx="5616720" cy="879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539640" y="5172120"/>
            <a:ext cx="561672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684360" y="5734080"/>
            <a:ext cx="5616360" cy="4935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539640" y="6307200"/>
            <a:ext cx="7704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68609" descr=""/>
          <p:cNvPicPr/>
          <p:nvPr/>
        </p:nvPicPr>
        <p:blipFill>
          <a:blip r:embed="rId1"/>
          <a:stretch/>
        </p:blipFill>
        <p:spPr>
          <a:xfrm>
            <a:off x="647640" y="2671920"/>
            <a:ext cx="7848720" cy="15141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79930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67585" descr=""/>
          <p:cNvPicPr/>
          <p:nvPr/>
        </p:nvPicPr>
        <p:blipFill>
          <a:blip r:embed="rId1"/>
          <a:stretch/>
        </p:blipFill>
        <p:spPr>
          <a:xfrm>
            <a:off x="614520" y="1341360"/>
            <a:ext cx="7914960" cy="219096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67586" descr=""/>
          <p:cNvPicPr/>
          <p:nvPr/>
        </p:nvPicPr>
        <p:blipFill>
          <a:blip r:embed="rId2"/>
          <a:stretch/>
        </p:blipFill>
        <p:spPr>
          <a:xfrm>
            <a:off x="190440" y="3441600"/>
            <a:ext cx="8763120" cy="22194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4097160" y="1844640"/>
            <a:ext cx="1122480" cy="4939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7466040" y="1844640"/>
            <a:ext cx="1122480" cy="493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4211640" y="2492280"/>
            <a:ext cx="1122480" cy="4939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6"/>
          <a:stretch/>
        </p:blipFill>
        <p:spPr>
          <a:xfrm>
            <a:off x="7496280" y="2492280"/>
            <a:ext cx="1122120" cy="4939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7"/>
          <a:stretch/>
        </p:blipFill>
        <p:spPr>
          <a:xfrm>
            <a:off x="1835280" y="4005360"/>
            <a:ext cx="1122120" cy="4935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8"/>
          <a:stretch/>
        </p:blipFill>
        <p:spPr>
          <a:xfrm>
            <a:off x="4932360" y="4005360"/>
            <a:ext cx="1122480" cy="4935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9"/>
          <a:stretch/>
        </p:blipFill>
        <p:spPr>
          <a:xfrm>
            <a:off x="7964640" y="4005360"/>
            <a:ext cx="1122120" cy="4935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0"/>
          <a:stretch/>
        </p:blipFill>
        <p:spPr>
          <a:xfrm>
            <a:off x="1994040" y="4653000"/>
            <a:ext cx="1122120" cy="4935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1"/>
          <a:stretch/>
        </p:blipFill>
        <p:spPr>
          <a:xfrm>
            <a:off x="5062680" y="4653000"/>
            <a:ext cx="1122120" cy="4935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2"/>
          <a:stretch/>
        </p:blipFill>
        <p:spPr>
          <a:xfrm>
            <a:off x="8288280" y="4610160"/>
            <a:ext cx="6764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14280" y="839880"/>
            <a:ext cx="851544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866880" y="1881360"/>
            <a:ext cx="7410240" cy="30952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2268360" y="2392200"/>
            <a:ext cx="172728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1908000" y="3500280"/>
            <a:ext cx="172728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2050920" y="4522680"/>
            <a:ext cx="17272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8373" descr=""/>
          <p:cNvPicPr/>
          <p:nvPr/>
        </p:nvPicPr>
        <p:blipFill>
          <a:blip r:embed="rId1"/>
          <a:stretch/>
        </p:blipFill>
        <p:spPr>
          <a:xfrm>
            <a:off x="595440" y="2343240"/>
            <a:ext cx="7953120" cy="21715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3419640" y="2852640"/>
            <a:ext cx="158400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4716360" y="3948120"/>
            <a:ext cx="1584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7352" descr=""/>
          <p:cNvPicPr/>
          <p:nvPr/>
        </p:nvPicPr>
        <p:blipFill>
          <a:blip r:embed="rId1"/>
          <a:stretch/>
        </p:blipFill>
        <p:spPr>
          <a:xfrm>
            <a:off x="295200" y="1595520"/>
            <a:ext cx="8553600" cy="3666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4427640" y="2363760"/>
            <a:ext cx="446544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4211640" y="2982960"/>
            <a:ext cx="4465800" cy="8776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3924360" y="3933720"/>
            <a:ext cx="446544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3851280" y="4451400"/>
            <a:ext cx="4465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6324" descr=""/>
          <p:cNvPicPr/>
          <p:nvPr/>
        </p:nvPicPr>
        <p:blipFill>
          <a:blip r:embed="rId1"/>
          <a:stretch/>
        </p:blipFill>
        <p:spPr>
          <a:xfrm>
            <a:off x="1200240" y="836640"/>
            <a:ext cx="6743520" cy="382896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56325" descr=""/>
          <p:cNvPicPr/>
          <p:nvPr/>
        </p:nvPicPr>
        <p:blipFill>
          <a:blip r:embed="rId2"/>
          <a:stretch/>
        </p:blipFill>
        <p:spPr>
          <a:xfrm>
            <a:off x="826920" y="4797360"/>
            <a:ext cx="7324920" cy="1590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6624720" cy="4935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1258920" y="3573360"/>
            <a:ext cx="662472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1116000" y="4091040"/>
            <a:ext cx="662472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5048280" y="5084640"/>
            <a:ext cx="261936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2700360" y="5661000"/>
            <a:ext cx="3095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5300" descr=""/>
          <p:cNvPicPr/>
          <p:nvPr/>
        </p:nvPicPr>
        <p:blipFill>
          <a:blip r:embed="rId1"/>
          <a:stretch/>
        </p:blipFill>
        <p:spPr>
          <a:xfrm>
            <a:off x="309600" y="1457280"/>
            <a:ext cx="8524800" cy="39434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684360" y="3184560"/>
            <a:ext cx="417492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4174920" cy="493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684360" y="4249800"/>
            <a:ext cx="4174920" cy="4935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41749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4276" descr=""/>
          <p:cNvPicPr/>
          <p:nvPr/>
        </p:nvPicPr>
        <p:blipFill>
          <a:blip r:embed="rId1"/>
          <a:stretch/>
        </p:blipFill>
        <p:spPr>
          <a:xfrm>
            <a:off x="299880" y="1204920"/>
            <a:ext cx="8544240" cy="44481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755640" y="2952720"/>
            <a:ext cx="7201080" cy="4939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611280" y="3500280"/>
            <a:ext cx="720072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612720" y="4005360"/>
            <a:ext cx="720108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468360" y="4552920"/>
            <a:ext cx="8496360" cy="49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6"/>
          <a:stretch/>
        </p:blipFill>
        <p:spPr>
          <a:xfrm>
            <a:off x="250920" y="5084640"/>
            <a:ext cx="849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2231" descr=""/>
          <p:cNvPicPr/>
          <p:nvPr/>
        </p:nvPicPr>
        <p:blipFill>
          <a:blip r:embed="rId1"/>
          <a:stretch/>
        </p:blipFill>
        <p:spPr>
          <a:xfrm>
            <a:off x="285840" y="1224000"/>
            <a:ext cx="8572320" cy="44100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1042920" y="2997360"/>
            <a:ext cx="6408720" cy="9363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684360" y="4005360"/>
            <a:ext cx="467964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611280" y="4508640"/>
            <a:ext cx="468000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468360" y="5027760"/>
            <a:ext cx="705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51:2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